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5C5B-6D33-40D7-9E2B-B5996491A6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ормы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льтура – это лишь тоненькая яблочная кожура над раскаленным ха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 Ниц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0FDB-2B51-4DC9-AAEE-38A30939CC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сс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C1CA-9FC6-48F9-BD9F-490BB60687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обенности продукции масс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пецифические признаки серийной продукции: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римитивизация отношений между людь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развлекательность, забавность, сентиментальность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натуралистическое смакование насилия и сек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успеха, сильная личность, жажда обладания веща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посредственности, условность примитивной символ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AF5D-D045-4F9A-8190-9F14A46857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новидност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D7D7-273E-4CF4-B9EB-A397D471B6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лодежная суб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7615-894F-42B1-BEE9-8B36210F66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литар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4B30-11BB-418F-97C5-CE56F7225A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ъекты элитарн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27F6-14A7-449B-91EC-65E3346E8E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род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2B70-579F-4879-B21D-857D261A48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0A6-93DF-4A0E-A21D-842E3D1C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27A-C04B-4A4B-B578-ECE37A7A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A80-340A-4241-A698-6BB1D29B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C92-7665-4BE8-859C-7FBDFE5D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66F-6554-4594-B049-922FFD50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A24-3DF1-4D07-AB86-35D14246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EA0-0E58-4131-8B1F-655D5A11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01B-5C6D-4C5B-9702-FA058B88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843-C0DC-4FE9-8804-848AFF88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1DD-C2E5-42C7-A0DC-4EF0C67D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83E-67FD-4782-AE48-8D9DA05F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F48-AE3F-4E5E-9502-F24C0825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0747-C8D2-4828-AE85-6210CC7DD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96/26596055_1212756189_3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urotours.ru/data/images/03f321205a5a9b6ff519d6b58d3fe926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pic21.blog.tut.by/wp-content/uploads/popic21/2008/08/082308_1817_9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g0.liveinternet.ru/images/attach/c/0/53/283/53283884_1262544729_chinese_chinacircus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search?p=94&amp;text=&#1087;&#1086;&#1087;%20-%20&#1079;&#1074;&#1077;&#1079;&#1076;&#1099;&amp;spsite=fake-038-1905911.ru&amp;img_url=www.hln.be%2Fstatic%2FFOTO%2Fpe%2F16%2F1%2F13%2Fmedia_xl_3159298.jpg%3F20091223092643&amp;rpt=simage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yandex.ru/search?p=35&amp;ed=1&amp;text=&#1084;&#1072;&#1089;&#1089;&#1086;&#1074;&#1072;&#1103;%20&#1082;&#1091;&#1083;&#1100;&#1090;&#1091;&#1088;&#1072;%20&#1084;&#1085;&#1086;&#1075;&#1086;&#1101;&#1090;&#1072;&#1078;&#1085;&#1099;&#1077;%20&#1076;&#1086;&#1084;&#1072;&amp;spsite=fake-002-528252.ru&amp;img_url=www.gazeta.lv%2Fimages%2F____Emanzhelinsk8.jpg&amp;rpt=simage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maxav.ru/images/h-1402-black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yandex.ru/search?p=11&amp;ed=1&amp;text=&#1084;&#1086;&#1073;&#1080;&#1083;&#1100;&#1085;&#1080;&#1082;&#1080;%20&#1085;&#1086;&#1074;&#1080;&#1085;&#1082;&#1080;&amp;spsite=fake-057-1187887.ru&amp;img_url=www.hitlife.net.ua%2Fpictures%2FSamsung_i520.jpg&amp;rpt=simage&amp;nl=1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943/3274943/f_18053348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g-fotki.yandex.ru/get/3303/faroh.0/0_b48_fac711dd_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CyberGoth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yandex.ru/search?p=0&amp;ed=1&amp;text=&#1084;&#1077;&#1090;&#1072;&#1083;&#1083;&#1080;&#1089;&#1090;&#1099;%20&#1082;&#1072;&#1088;&#1090;&#1080;&#1085;&#1082;&#1080;&amp;spsite=fake-020-565337.ru&amp;img_url=dic.academic.ru%2Fpictures%2Fenwiki%2F80%2FPriestScorpionsNEC_017_Halford.jpg&amp;rpt=simage&amp;nl=1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s1062.vkontakte.ru/u1791273/8431109/x_073417d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crossmcc.ru/_nw/0/97085548.jp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media.aplus.by/uploads/posts/1214168010_22.jpg" TargetMode="External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0/1667050/f_1452153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c.opa.by/images/photos/2009/07/23/11/3993/20025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g0.liveinternet.ru/images/attach/b/3/11/698/11698005_5_BEA_batcavebitch_1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ves.lv/article/img.php?image=35afcb39dad0fd02235dedfab3beb4ab&amp;w=400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allday.ru/uploads/posts/2008-10/1224863717_0011.jpg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bondarenko.info/photos/d/1918-2/rol2.jpg" TargetMode="External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.media.tumblr.com/tumblr_kv41l4085z1qa5ve9o1_5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ablo-ruiz-picasso.ru/images/works/17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istories.ru/files/u1/Picasso2_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hep.phys.soton.ac.uk/~evans/Dreams/Four/raphae2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0.liveinternet.ru/images/attach/b/3/14/642/14642040_00000559831499695853146m549x500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9/gedeon1980.d1/0_1ab5e_3487b4ee_X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pit.dirty.ru/dirty/1/2008/11/14/16850-231514-c90182f41039332d0f1ea55908ddb510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lfort.com.ua/getimg.php?w=800&amp;h=600&amp;file=ddb250e30de124210e64ee15bfc6276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mode-elegance.ru/images/poshiv/elitnaya-moda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ediaport.ua/news/media/830000/83887_380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pro-volgograd.ru/attachments/orkestr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full_Duh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hobest.in.ua/uploads/posts/2009-11/thumbs/1257722351_1257715593_titul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ara.by/media/para.by/base/news_text_999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льтура – это лишь тоненькая яблочная кожура над раскаленным хао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. Ниц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560"/>
            <a:ext cx="5040360" cy="346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lmes01"/>
          <p:cNvPicPr/>
          <p:nvPr/>
        </p:nvPicPr>
        <p:blipFill>
          <a:blip r:embed="rId3"/>
          <a:stretch/>
        </p:blipFill>
        <p:spPr>
          <a:xfrm>
            <a:off x="550872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4 из 1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357720"/>
            <a:ext cx="32292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268280"/>
            <a:ext cx="257472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60 из 14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197896900-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501336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54252601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125360"/>
            <a:ext cx="2063880" cy="156708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6 из 159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38960" y="3068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12481662-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1125360"/>
            <a:ext cx="136224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-main-pic" descr="Картинка 20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18040"/>
            <a:ext cx="468000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7 из 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213000"/>
            <a:ext cx="3351240" cy="33782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продукции массов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760" y="2656080"/>
            <a:ext cx="81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е признаки серийной продукции: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ивизация отношений между людь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влекательность, забавность, сентимента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натуралистическое смакование насилия и сек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успеха, сильная личность, жажда обладания вещ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посредственности, условность примитивной символ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404640"/>
          <a:ext cx="8280360" cy="6518520"/>
        </p:xfrm>
        <a:graphic>
          <a:graphicData uri="http://schemas.openxmlformats.org/drawingml/2006/table">
            <a:tbl>
              <a:tblPr/>
              <a:tblGrid>
                <a:gridCol w="4448160"/>
                <a:gridCol w="3832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ает простые и понятные представления о мире людей, о взаимоотношениях между ними, об образе жизни, что позволяет многим людям лучше ориентироваться в современном, быстро меня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е произведения не выступают средством авторского самовыражения, а непосредственно обращены к читателю, слушателю, зрителю, учитывают его за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ется демократичностью (ее «продуктами» пользуются представители разных социальных групп), что соответствует нашему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просам, потребностям многих людей, в том числе и потребности в интенсивном отдыхе, психологической разряд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свои вершины — литературные, музыкальные, кинематографические произведения, которые уже по сути могут быть отнесены к «высокому» искус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ет общую планку духовной культуры общества, поскольку потакает невзыскательным вкусам «массового чело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к стандартизации и унификации не только образа жизни, но и образа мыслей миллионов людей • Рассчитана на пассивное потребление, так как не стимулирует никаких творческих импульсов в духовной сфер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аждает мифы в сознании людей («миф Золушки», «миф простого парня» и т. 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 у людей через массированную рекламу искусственные потре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современные СМИ, подменяет для многих людей реальную жизнь, навязывая определенные представления и предпо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новидности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92560"/>
                <a:gridCol w="426960"/>
                <a:gridCol w="3610080"/>
              </a:tblGrid>
              <a:tr h="81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кулъ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обще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истема ценностей, присущих определенной группе (половозрастные: женская, детская, молодежная и др.; профессиональные: научное сообщество, современный бизнес и др.; досуговые (по предпочитаемым занятиям в свободное время); религиозные; этнические; кримин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оторая не просто отличается о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юще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ультуры, но противостоит ей, находится в конфликте с доминирующими ценностя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позиция и альтернатива по отношению к в обществе культуре (битники, хиппи и панки; левые радикалы; андеграунд, скинхед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олодежная 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Файл:CyberGot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781360"/>
            <a:ext cx="5761080" cy="383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?id=5477802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890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6 из 594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78000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2 из 1067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02040"/>
            <a:ext cx="3889440" cy="29559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 из 78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620640"/>
            <a:ext cx="3059280" cy="2289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17 из 21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33 из 14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2 из 169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99736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i-main-pic" descr="Картинка 50 из 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60280"/>
            <a:ext cx="344988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338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73360"/>
            <a:ext cx="2471760" cy="328464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9 из 5456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7920" y="3284640"/>
            <a:ext cx="238608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-main-pic" descr="Картинка 10 из 11196"/>
          <p:cNvPicPr/>
          <p:nvPr/>
        </p:nvPicPr>
        <p:blipFill>
          <a:blip r:embed="rId1"/>
          <a:stretch/>
        </p:blipFill>
        <p:spPr>
          <a:xfrm>
            <a:off x="4175280" y="3352680"/>
            <a:ext cx="4968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10 из 21458"/>
          <p:cNvPicPr/>
          <p:nvPr/>
        </p:nvPicPr>
        <p:blipFill>
          <a:blip r:embed="rId2"/>
          <a:stretch/>
        </p:blipFill>
        <p:spPr>
          <a:xfrm>
            <a:off x="4498920" y="115920"/>
            <a:ext cx="4645080" cy="310212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17 из 9107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4 из 14670"/>
          <p:cNvPicPr/>
          <p:nvPr/>
        </p:nvPicPr>
        <p:blipFill>
          <a:blip r:embed="rId4"/>
          <a:stretch/>
        </p:blipFill>
        <p:spPr>
          <a:xfrm>
            <a:off x="0" y="115920"/>
            <a:ext cx="40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i-main-pic" descr="Картинка 2 из 32"/>
          <p:cNvPicPr/>
          <p:nvPr/>
        </p:nvPicPr>
        <p:blipFill>
          <a:blip r:embed="rId5"/>
          <a:stretch/>
        </p:blipFill>
        <p:spPr>
          <a:xfrm>
            <a:off x="3348000" y="1557360"/>
            <a:ext cx="216684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6"/>
          <p:cNvGrpSpPr/>
          <p:nvPr/>
        </p:nvGrpSpPr>
        <p:grpSpPr>
          <a:xfrm>
            <a:off x="684360" y="692280"/>
            <a:ext cx="7848000" cy="5347800"/>
            <a:chOff x="684360" y="692280"/>
            <a:chExt cx="7848000" cy="53478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54468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>
              <a:off x="4608360" y="2830680"/>
              <a:ext cx="2880" cy="10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7000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1031"/>
            <p:cNvSpPr/>
            <p:nvPr/>
          </p:nvSpPr>
          <p:spPr>
            <a:xfrm>
              <a:off x="3431160" y="69228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6843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асс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4311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род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61779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итар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2 из 65782"/>
          <p:cNvPicPr/>
          <p:nvPr/>
        </p:nvPicPr>
        <p:blipFill>
          <a:blip r:embed="rId1"/>
          <a:stretch/>
        </p:blipFill>
        <p:spPr>
          <a:xfrm>
            <a:off x="468360" y="514440"/>
            <a:ext cx="8280360" cy="5765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55640" y="549360"/>
          <a:ext cx="7777080" cy="6132600"/>
        </p:xfrm>
        <a:graphic>
          <a:graphicData uri="http://schemas.openxmlformats.org/drawingml/2006/table">
            <a:tbl>
              <a:tblPr/>
              <a:tblGrid>
                <a:gridCol w="2460600"/>
                <a:gridCol w="397080"/>
                <a:gridCol w="2003400"/>
                <a:gridCol w="398160"/>
                <a:gridCol w="25178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л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р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«привилегированной частью общества» либо по ее заказу профессиональными твор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о, опережает уровень восприятия ее средне образованным челове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з элитарной культуры «Искусство ради искусства». Творцы элитарной культуры как правило и не рассчитывают на широкую аудиторию. Чтобы понимать эти произведения надо владеть особым языком искусст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анонимными творцами, не имеющими профессиональной подготовки (мифы, легенды эпосы, сказки, песни, танцы, карнавал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, используемое для характеристики современного культурного производства и потребления (концертная и эстрадная музыка, поп-культура, китч без различия классов, наций, уровня материального состояния, стандартизация культу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литар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97964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феоз абстра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50920" y="422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нск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0 из 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4640"/>
            <a:ext cx="28288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4859280" y="429192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«Девочка с лодо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4 из 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14200"/>
            <a:ext cx="3744720" cy="319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3401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 «Дора Маар с ко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8 из 173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316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427640" y="40219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аэль Санти «Сикстинская мадон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9 из 9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3789360"/>
            <a:ext cx="2473200" cy="287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356000" y="60174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-main-pic" descr="Картинка 14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92"/>
          <p:cNvPicPr/>
          <p:nvPr/>
        </p:nvPicPr>
        <p:blipFill>
          <a:blip r:embed="rId3"/>
          <a:stretch/>
        </p:blipFill>
        <p:spPr>
          <a:xfrm>
            <a:off x="2627280" y="3573360"/>
            <a:ext cx="640872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1 из 3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8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57747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Глаз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й эксперимен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9280" y="3514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148360" y="3109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вазовский  «Девят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ъекты элитар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052640"/>
            <a:ext cx="5085000" cy="3431880"/>
          </a:xfrm>
          <a:prstGeom prst="rect">
            <a:avLst/>
          </a:prstGeom>
          <a:ln w="0">
            <a:noFill/>
          </a:ln>
        </p:spPr>
      </p:pic>
      <p:pic>
        <p:nvPicPr>
          <p:cNvPr id="87" name="i-main-pic" descr="Картинка 75 из 7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5254560" cy="3716280"/>
          </a:xfrm>
          <a:prstGeom prst="rect">
            <a:avLst/>
          </a:prstGeom>
          <a:ln w="0">
            <a:noFill/>
          </a:ln>
        </p:spPr>
      </p:pic>
      <p:pic>
        <p:nvPicPr>
          <p:cNvPr id="88" name="i-main-pic" descr="Картинка 3 из 1366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98100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 из 116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19 из 190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7640" y="1268280"/>
            <a:ext cx="5256360" cy="34689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283212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6 из 8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3716280"/>
            <a:ext cx="24224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32:31Z</dcterms:created>
  <dc:creator>User</dc:creator>
  <dc:description/>
  <dc:language>en-US</dc:language>
  <cp:lastModifiedBy>LEGION</cp:lastModifiedBy>
  <dcterms:modified xsi:type="dcterms:W3CDTF">2014-11-11T11:37:34Z</dcterms:modified>
  <cp:revision>8</cp:revision>
  <dc:subject/>
  <dc:title>Формы культуры</dc:title>
</cp:coreProperties>
</file>